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6BDB-2E6D-444B-BA39-DD790FE4BFF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7C00-4142-476B-A212-B6DECA31F2F2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CD8A-24FA-41E8-8608-D8651E1DE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7720" y="685800"/>
            <a:ext cx="76964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685800"/>
            <a:ext cx="76964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7720" y="685800"/>
            <a:ext cx="76964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593280"/>
            <a:ext cx="7696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44"/>
          <p:cNvSpPr/>
          <p:nvPr/>
        </p:nvSpPr>
        <p:spPr>
          <a:xfrm>
            <a:off x="457200" y="533520"/>
            <a:ext cx="8396280" cy="7617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83b7e7"/>
              </a:gs>
              <a:gs pos="50000">
                <a:srgbClr val="cde2f5"/>
              </a:gs>
              <a:gs pos="100000">
                <a:srgbClr val="83b7e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609480" y="600120"/>
            <a:ext cx="8175600" cy="628560"/>
          </a:xfrm>
          <a:prstGeom prst="rect">
            <a:avLst/>
          </a:prstGeom>
          <a:gradFill rotWithShape="0">
            <a:gsLst>
              <a:gs pos="0">
                <a:srgbClr val="83b7e7"/>
              </a:gs>
              <a:gs pos="50000">
                <a:srgbClr val="ffffff"/>
              </a:gs>
              <a:gs pos="100000">
                <a:srgbClr val="83b7e7"/>
              </a:gs>
            </a:gsLst>
            <a:lin ang="27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43" descr="guilde"/>
          <p:cNvPicPr/>
          <p:nvPr/>
        </p:nvPicPr>
        <p:blipFill>
          <a:blip r:embed="rId3"/>
          <a:stretch/>
        </p:blipFill>
        <p:spPr>
          <a:xfrm>
            <a:off x="0" y="0"/>
            <a:ext cx="2514600" cy="17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4" name="Text Box 40"/>
          <p:cNvSpPr/>
          <p:nvPr/>
        </p:nvSpPr>
        <p:spPr>
          <a:xfrm rot="524400">
            <a:off x="609120" y="9144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3c7d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7086600" y="225360"/>
            <a:ext cx="17906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chinaemble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44"/>
          <p:cNvSpPr/>
          <p:nvPr/>
        </p:nvSpPr>
        <p:spPr>
          <a:xfrm>
            <a:off x="457200" y="533520"/>
            <a:ext cx="8396280" cy="7617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83b7e7"/>
              </a:gs>
              <a:gs pos="50000">
                <a:srgbClr val="cde2f5"/>
              </a:gs>
              <a:gs pos="100000">
                <a:srgbClr val="83b7e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45"/>
          <p:cNvSpPr/>
          <p:nvPr/>
        </p:nvSpPr>
        <p:spPr>
          <a:xfrm>
            <a:off x="609480" y="600120"/>
            <a:ext cx="8175600" cy="628560"/>
          </a:xfrm>
          <a:prstGeom prst="rect">
            <a:avLst/>
          </a:prstGeom>
          <a:gradFill rotWithShape="0">
            <a:gsLst>
              <a:gs pos="0">
                <a:srgbClr val="83b7e7"/>
              </a:gs>
              <a:gs pos="50000">
                <a:srgbClr val="ffffff"/>
              </a:gs>
              <a:gs pos="100000">
                <a:srgbClr val="83b7e7"/>
              </a:gs>
            </a:gsLst>
            <a:lin ang="27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3" descr="guilde"/>
          <p:cNvPicPr/>
          <p:nvPr/>
        </p:nvPicPr>
        <p:blipFill>
          <a:blip r:embed="rId3"/>
          <a:stretch/>
        </p:blipFill>
        <p:spPr>
          <a:xfrm>
            <a:off x="0" y="0"/>
            <a:ext cx="2514600" cy="17114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0"/>
          <p:cNvSpPr/>
          <p:nvPr/>
        </p:nvSpPr>
        <p:spPr>
          <a:xfrm rot="524400">
            <a:off x="609120" y="9144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3c7d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7086600" y="225360"/>
            <a:ext cx="17906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chinaemble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83b7e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44"/>
          <p:cNvSpPr/>
          <p:nvPr/>
        </p:nvSpPr>
        <p:spPr>
          <a:xfrm>
            <a:off x="457200" y="533520"/>
            <a:ext cx="8396280" cy="7617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83b7e7"/>
              </a:gs>
              <a:gs pos="50000">
                <a:srgbClr val="cde2f5"/>
              </a:gs>
              <a:gs pos="100000">
                <a:srgbClr val="83b7e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609480" y="600120"/>
            <a:ext cx="8175600" cy="628560"/>
          </a:xfrm>
          <a:prstGeom prst="rect">
            <a:avLst/>
          </a:prstGeom>
          <a:gradFill rotWithShape="0">
            <a:gsLst>
              <a:gs pos="0">
                <a:srgbClr val="83b7e7"/>
              </a:gs>
              <a:gs pos="50000">
                <a:srgbClr val="ffffff"/>
              </a:gs>
              <a:gs pos="100000">
                <a:srgbClr val="83b7e7"/>
              </a:gs>
            </a:gsLst>
            <a:lin ang="27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43" descr="guilde"/>
          <p:cNvPicPr/>
          <p:nvPr/>
        </p:nvPicPr>
        <p:blipFill>
          <a:blip r:embed="rId3"/>
          <a:stretch/>
        </p:blipFill>
        <p:spPr>
          <a:xfrm>
            <a:off x="0" y="0"/>
            <a:ext cx="2514600" cy="1711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0"/>
          <p:cNvSpPr/>
          <p:nvPr/>
        </p:nvSpPr>
        <p:spPr>
          <a:xfrm rot="524400">
            <a:off x="609120" y="9144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3c7d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c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c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3"/>
          </p:nvPr>
        </p:nvSpPr>
        <p:spPr>
          <a:xfrm>
            <a:off x="7086600" y="225360"/>
            <a:ext cx="179064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chinaemble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Z:\打带技巧改善\IMG_0813.JPG"/>
          <p:cNvPicPr/>
          <p:nvPr/>
        </p:nvPicPr>
        <p:blipFill>
          <a:blip r:embed="rId1"/>
          <a:stretch/>
        </p:blipFill>
        <p:spPr>
          <a:xfrm>
            <a:off x="4714920" y="1500120"/>
            <a:ext cx="3031920" cy="3786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Z:\打带技巧改善\IMG_0811.JPG"/>
          <p:cNvPicPr/>
          <p:nvPr/>
        </p:nvPicPr>
        <p:blipFill>
          <a:blip r:embed="rId2"/>
          <a:stretch/>
        </p:blipFill>
        <p:spPr>
          <a:xfrm>
            <a:off x="1357200" y="1500120"/>
            <a:ext cx="3000600" cy="3828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14240" y="5361120"/>
            <a:ext cx="7715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宋体"/>
              </a:rPr>
              <a:t>用一次性水杯在杯底烫一个小孔，注意孔的边沿不要有毛刺及不顺滑现象。然后将金银线穿过小孔，将杯子倒扣在线上。注意线如果太满，就需要选择稍大的水杯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Burn a small hole on the ground of  one-off plastic cups, the edge of the cup must be even. Then put the gold-silver thread through the hole, choose a bigger cup than the bobbi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标题 63"/>
          <p:cNvSpPr/>
          <p:nvPr/>
        </p:nvSpPr>
        <p:spPr>
          <a:xfrm>
            <a:off x="3348000" y="571680"/>
            <a:ext cx="4896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关于金银线车花的改善方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3071880" y="91584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宋体"/>
              </a:rPr>
              <a:t>The way of improving embroidery of gold-silver thre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页脚占位符 2"/>
          <p:cNvSpPr/>
          <p:nvPr/>
        </p:nvSpPr>
        <p:spPr>
          <a:xfrm>
            <a:off x="7086600" y="225360"/>
            <a:ext cx="17906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chinaemblem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Z:\打带技巧改善\IMG_0815.JPG"/>
          <p:cNvPicPr/>
          <p:nvPr/>
        </p:nvPicPr>
        <p:blipFill>
          <a:blip r:embed="rId1"/>
          <a:stretch/>
        </p:blipFill>
        <p:spPr>
          <a:xfrm>
            <a:off x="500040" y="1785960"/>
            <a:ext cx="2303640" cy="30718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3"/>
          <p:cNvGrpSpPr/>
          <p:nvPr/>
        </p:nvGrpSpPr>
        <p:grpSpPr>
          <a:xfrm>
            <a:off x="3143160" y="1785960"/>
            <a:ext cx="3247920" cy="3092400"/>
            <a:chOff x="3143160" y="1785960"/>
            <a:chExt cx="3247920" cy="3092400"/>
          </a:xfrm>
        </p:grpSpPr>
        <p:pic>
          <p:nvPicPr>
            <p:cNvPr id="142" name="Picture 4" descr=""/>
            <p:cNvPicPr/>
            <p:nvPr/>
          </p:nvPicPr>
          <p:blipFill>
            <a:blip r:embed="rId2"/>
            <a:stretch/>
          </p:blipFill>
          <p:spPr>
            <a:xfrm>
              <a:off x="3143160" y="1785960"/>
              <a:ext cx="3247920" cy="24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2" descr=""/>
            <p:cNvPicPr/>
            <p:nvPr/>
          </p:nvPicPr>
          <p:blipFill>
            <a:blip r:embed="rId3"/>
            <a:stretch/>
          </p:blipFill>
          <p:spPr>
            <a:xfrm>
              <a:off x="3143160" y="2395440"/>
              <a:ext cx="3247920" cy="24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Text Box 17"/>
          <p:cNvSpPr/>
          <p:nvPr/>
        </p:nvSpPr>
        <p:spPr>
          <a:xfrm>
            <a:off x="6877080" y="1773360"/>
            <a:ext cx="17654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第一个小旋钮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40%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张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Tension for the first knob set at 4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6981840" y="3924360"/>
            <a:ext cx="16956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大旋钮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40%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张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Tension for the big knob set 4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6981840" y="2639880"/>
            <a:ext cx="17668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第二个小旋钮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20%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张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Tension for the second knob set at 20 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直接箭头连接符 14"/>
          <p:cNvCxnSpPr>
            <a:stCxn id="144" idx="1"/>
          </p:cNvCxnSpPr>
          <p:nvPr/>
        </p:nvCxnSpPr>
        <p:spPr>
          <a:xfrm flipH="1" flipV="1">
            <a:off x="6141600" y="2002680"/>
            <a:ext cx="735840" cy="135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8" name="直接箭头连接符 15"/>
          <p:cNvCxnSpPr/>
          <p:nvPr/>
        </p:nvCxnSpPr>
        <p:spPr>
          <a:xfrm flipH="1" flipV="1">
            <a:off x="6176520" y="2649240"/>
            <a:ext cx="929520" cy="157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9" name="直接箭头连接符 16"/>
          <p:cNvCxnSpPr/>
          <p:nvPr/>
        </p:nvCxnSpPr>
        <p:spPr>
          <a:xfrm flipH="1">
            <a:off x="6176520" y="4163040"/>
            <a:ext cx="9295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0" name="直接箭头连接符 17"/>
          <p:cNvCxnSpPr/>
          <p:nvPr/>
        </p:nvCxnSpPr>
        <p:spPr>
          <a:xfrm flipH="1">
            <a:off x="2285280" y="2713680"/>
            <a:ext cx="3786840" cy="2862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1" name="椭圆 18"/>
          <p:cNvSpPr/>
          <p:nvPr/>
        </p:nvSpPr>
        <p:spPr>
          <a:xfrm>
            <a:off x="1143000" y="2286000"/>
            <a:ext cx="1500120" cy="1785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8"/>
          <p:cNvSpPr/>
          <p:nvPr/>
        </p:nvSpPr>
        <p:spPr>
          <a:xfrm flipH="1" rot="6154200">
            <a:off x="1837440" y="2755800"/>
            <a:ext cx="482400" cy="495360"/>
          </a:xfrm>
          <a:custGeom>
            <a:avLst/>
            <a:gdLst>
              <a:gd name="textAreaLeft" fmla="*/ 70560 w 482400"/>
              <a:gd name="textAreaRight" fmla="*/ 411840 w 482400"/>
              <a:gd name="textAreaTop" fmla="*/ 72360 h 495360"/>
              <a:gd name="textAreaBottom" fmla="*/ 423000 h 4953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16"/>
          <p:cNvSpPr/>
          <p:nvPr/>
        </p:nvSpPr>
        <p:spPr>
          <a:xfrm>
            <a:off x="357120" y="5000760"/>
            <a:ext cx="2571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第一和第二旋钮尽量放松（逆时针旋），保持基本与螺丝持平的状态，如图所示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Set the first and the second knobs  loose (counter-clockwise direction )as much as  possible and keep the knobs to be horizontal as the screw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see the pi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椭圆 21"/>
          <p:cNvSpPr/>
          <p:nvPr/>
        </p:nvSpPr>
        <p:spPr>
          <a:xfrm>
            <a:off x="5786280" y="3914640"/>
            <a:ext cx="571680" cy="57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5" name="直接箭头连接符 22"/>
          <p:cNvCxnSpPr/>
          <p:nvPr/>
        </p:nvCxnSpPr>
        <p:spPr>
          <a:xfrm flipV="1">
            <a:off x="5715000" y="4343040"/>
            <a:ext cx="286560" cy="1000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6" name="Rectangle 14"/>
          <p:cNvSpPr/>
          <p:nvPr/>
        </p:nvSpPr>
        <p:spPr>
          <a:xfrm>
            <a:off x="3143160" y="5200560"/>
            <a:ext cx="54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如果有白色底线被拉出布面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则调小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逆时针旋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面线张力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If the white bobbin thread was pulled out to the face of the fabric, then adjust the tension of the face thread in a counter-clockwise direction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6"/>
          <p:cNvSpPr/>
          <p:nvPr/>
        </p:nvSpPr>
        <p:spPr>
          <a:xfrm>
            <a:off x="3143160" y="5986440"/>
            <a:ext cx="5072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如果有面线松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则调大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顺时针旋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面线张力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Adjust the tension of the face thread in a clockwise direction if the face thread becomes loo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8" name="直接箭头连接符 24"/>
          <p:cNvCxnSpPr/>
          <p:nvPr/>
        </p:nvCxnSpPr>
        <p:spPr>
          <a:xfrm flipH="1">
            <a:off x="2285280" y="2070720"/>
            <a:ext cx="3786840" cy="786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9" name="标题 63"/>
          <p:cNvSpPr/>
          <p:nvPr/>
        </p:nvSpPr>
        <p:spPr>
          <a:xfrm>
            <a:off x="3348000" y="571680"/>
            <a:ext cx="4896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关于金银线车花的改善方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矩形 6"/>
          <p:cNvSpPr/>
          <p:nvPr/>
        </p:nvSpPr>
        <p:spPr>
          <a:xfrm>
            <a:off x="3071880" y="91584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宋体"/>
              </a:rPr>
              <a:t>The way of improving embroidery of gold-silver thre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页脚占位符 2"/>
          <p:cNvSpPr/>
          <p:nvPr/>
        </p:nvSpPr>
        <p:spPr>
          <a:xfrm>
            <a:off x="7086600" y="225360"/>
            <a:ext cx="17906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chinaemblem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Z:\打带技巧改善\IMG_0820.JPG"/>
          <p:cNvPicPr/>
          <p:nvPr/>
        </p:nvPicPr>
        <p:blipFill>
          <a:blip r:embed="rId1"/>
          <a:stretch/>
        </p:blipFill>
        <p:spPr>
          <a:xfrm>
            <a:off x="4572000" y="4149720"/>
            <a:ext cx="3282840" cy="2462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Z:\打带技巧改善\IMG_0817.JPG"/>
          <p:cNvPicPr/>
          <p:nvPr/>
        </p:nvPicPr>
        <p:blipFill>
          <a:blip r:embed="rId2"/>
          <a:stretch/>
        </p:blipFill>
        <p:spPr>
          <a:xfrm>
            <a:off x="1227240" y="1697040"/>
            <a:ext cx="3262320" cy="2446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Z:\打带技巧改善\IMG_0818.JPG"/>
          <p:cNvPicPr/>
          <p:nvPr/>
        </p:nvPicPr>
        <p:blipFill>
          <a:blip r:embed="rId3"/>
          <a:stretch/>
        </p:blipFill>
        <p:spPr>
          <a:xfrm>
            <a:off x="4584600" y="1643040"/>
            <a:ext cx="3286080" cy="2643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Z:\打带技巧改善\IMG_0819.JPG"/>
          <p:cNvPicPr/>
          <p:nvPr/>
        </p:nvPicPr>
        <p:blipFill>
          <a:blip r:embed="rId4"/>
          <a:stretch/>
        </p:blipFill>
        <p:spPr>
          <a:xfrm>
            <a:off x="1214280" y="4170240"/>
            <a:ext cx="3299040" cy="247356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8"/>
          <p:cNvSpPr/>
          <p:nvPr/>
        </p:nvSpPr>
        <p:spPr>
          <a:xfrm flipH="1" rot="16988400">
            <a:off x="2409840" y="2247120"/>
            <a:ext cx="454320" cy="519120"/>
          </a:xfrm>
          <a:custGeom>
            <a:avLst/>
            <a:gdLst>
              <a:gd name="textAreaLeft" fmla="*/ 66240 w 454320"/>
              <a:gd name="textAreaRight" fmla="*/ 388080 w 454320"/>
              <a:gd name="textAreaTop" fmla="*/ 75960 h 519120"/>
              <a:gd name="textAreaBottom" fmla="*/ 443160 h 5191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左弧形箭头 14"/>
          <p:cNvSpPr/>
          <p:nvPr/>
        </p:nvSpPr>
        <p:spPr>
          <a:xfrm>
            <a:off x="2463840" y="4714920"/>
            <a:ext cx="549360" cy="857160"/>
          </a:xfrm>
          <a:custGeom>
            <a:avLst/>
            <a:gdLst>
              <a:gd name="textAreaLeft" fmla="*/ 73440 w 549360"/>
              <a:gd name="textAreaRight" fmla="*/ 475920 w 549360"/>
              <a:gd name="textAreaTop" fmla="*/ 162720 h 857160"/>
              <a:gd name="textAreaBottom" fmla="*/ 625680 h 85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205" stAng="-5400000" swAng="-5400000"/>
                <a:lnTo>
                  <a:pt x="0" y="11665"/>
                </a:lnTo>
                <a:arcTo wR="21600" hR="8205" stAng="10800000" swAng="-3347718"/>
                <a:lnTo>
                  <a:pt x="16200" y="21339"/>
                </a:lnTo>
                <a:lnTo>
                  <a:pt x="21600" y="18140"/>
                </a:lnTo>
                <a:lnTo>
                  <a:pt x="16200" y="14419"/>
                </a:lnTo>
                <a:lnTo>
                  <a:pt x="16200" y="16149"/>
                </a:lnTo>
                <a:arcTo wR="21600" hR="8205" stAng="7452282" swAng="3066676"/>
                <a:lnTo>
                  <a:pt x="486" y="9935"/>
                </a:lnTo>
                <a:arcTo wR="21600" hR="8205" stAng="-10518958" swAng="5118958"/>
                <a:close/>
              </a:path>
              <a:path fill="darkenLess" w="21600" h="21600">
                <a:moveTo>
                  <a:pt x="21600" y="0"/>
                </a:moveTo>
                <a:arcTo wR="21600" hR="8205" stAng="-5400000" swAng="-5400000"/>
                <a:lnTo>
                  <a:pt x="0" y="8205"/>
                </a:lnTo>
                <a:arcTo wR="21600" hR="8205" stAng="10800000" swAng="-281042"/>
                <a:lnTo>
                  <a:pt x="486" y="9935"/>
                </a:lnTo>
                <a:arcTo wR="21600" hR="8205" stAng="-10518958" swAng="5118958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8" name="直接箭头连接符 15"/>
          <p:cNvCxnSpPr/>
          <p:nvPr/>
        </p:nvCxnSpPr>
        <p:spPr>
          <a:xfrm>
            <a:off x="2869920" y="2785680"/>
            <a:ext cx="500760" cy="214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69" name="直接箭头连接符 16"/>
          <p:cNvCxnSpPr/>
          <p:nvPr/>
        </p:nvCxnSpPr>
        <p:spPr>
          <a:xfrm>
            <a:off x="6013080" y="2286000"/>
            <a:ext cx="500760" cy="286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0" name="直接箭头连接符 17"/>
          <p:cNvCxnSpPr/>
          <p:nvPr/>
        </p:nvCxnSpPr>
        <p:spPr>
          <a:xfrm>
            <a:off x="6585120" y="2571840"/>
            <a:ext cx="429120" cy="72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1" name="AutoShape 18"/>
          <p:cNvSpPr/>
          <p:nvPr/>
        </p:nvSpPr>
        <p:spPr>
          <a:xfrm flipH="1" rot="829200">
            <a:off x="6435720" y="4863600"/>
            <a:ext cx="450720" cy="519120"/>
          </a:xfrm>
          <a:custGeom>
            <a:avLst/>
            <a:gdLst>
              <a:gd name="textAreaLeft" fmla="*/ 65880 w 450720"/>
              <a:gd name="textAreaRight" fmla="*/ 384840 w 450720"/>
              <a:gd name="textAreaTop" fmla="*/ 75960 h 519120"/>
              <a:gd name="textAreaBottom" fmla="*/ 443160 h 5191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18"/>
          <p:cNvSpPr/>
          <p:nvPr/>
        </p:nvSpPr>
        <p:spPr>
          <a:xfrm>
            <a:off x="1441440" y="5786280"/>
            <a:ext cx="292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Calibri"/>
                <a:ea typeface="宋体"/>
              </a:rPr>
              <a:t>底线要非常顺畅的能拉出来，拉出底线时，线芯要如图所示方向转动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Calibri"/>
                <a:ea typeface="宋体"/>
              </a:rPr>
              <a:t>pull out the underlay smoothly and the core of shuttle must tur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  <a:ea typeface="宋体"/>
              </a:rPr>
              <a:t>n</a:t>
            </a:r>
            <a:r>
              <a:rPr b="0" lang="zh-CN" sz="1200" spc="-1" strike="noStrike">
                <a:solidFill>
                  <a:srgbClr val="ffff00"/>
                </a:solidFill>
                <a:latin typeface="Calibri"/>
                <a:ea typeface="宋体"/>
              </a:rPr>
              <a:t> around as the pictu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19"/>
          <p:cNvSpPr/>
          <p:nvPr/>
        </p:nvSpPr>
        <p:spPr>
          <a:xfrm>
            <a:off x="1370160" y="3273480"/>
            <a:ext cx="32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Calibri"/>
                <a:ea typeface="宋体"/>
              </a:rPr>
              <a:t>底线按如图所示方向装入梭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Calibri"/>
                <a:ea typeface="宋体"/>
              </a:rPr>
              <a:t>Put the underlay into the shuttle </a:t>
            </a:r>
            <a:r>
              <a:rPr b="0" lang="en-US" sz="1600" spc="-1" strike="noStrike">
                <a:solidFill>
                  <a:srgbClr val="ffff00"/>
                </a:solidFill>
                <a:latin typeface="Calibri"/>
                <a:ea typeface="宋体"/>
              </a:rPr>
              <a:t>as </a:t>
            </a:r>
            <a:r>
              <a:rPr b="0" lang="zh-CN" sz="1600" spc="-1" strike="noStrike">
                <a:solidFill>
                  <a:srgbClr val="ffff00"/>
                </a:solidFill>
                <a:latin typeface="Calibri"/>
                <a:ea typeface="宋体"/>
              </a:rPr>
              <a:t>the pi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20"/>
          <p:cNvSpPr/>
          <p:nvPr/>
        </p:nvSpPr>
        <p:spPr>
          <a:xfrm>
            <a:off x="4656240" y="3267000"/>
            <a:ext cx="350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Calibri"/>
                <a:ea typeface="宋体"/>
              </a:rPr>
              <a:t>然后通过</a:t>
            </a:r>
            <a:r>
              <a:rPr b="0" lang="zh-CN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</a:rPr>
              <a:t>弹簧片</a:t>
            </a:r>
            <a:r>
              <a:rPr b="0" lang="zh-CN" sz="1600" spc="-1" strike="noStrike">
                <a:solidFill>
                  <a:srgbClr val="ffff00"/>
                </a:solidFill>
                <a:latin typeface="Calibri"/>
                <a:ea typeface="宋体"/>
              </a:rPr>
              <a:t>再绕过</a:t>
            </a:r>
            <a:r>
              <a:rPr b="0" lang="zh-CN" sz="1600" spc="-1" strike="noStrike" u="sng">
                <a:solidFill>
                  <a:srgbClr val="ffff00"/>
                </a:solidFill>
                <a:uFillTx/>
                <a:latin typeface="Calibri"/>
                <a:ea typeface="宋体"/>
              </a:rPr>
              <a:t>扣线弹簧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alibri"/>
                <a:ea typeface="宋体"/>
              </a:rPr>
              <a:t>go through the spring piece and  then go through the hoo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直接箭头连接符 22"/>
          <p:cNvCxnSpPr/>
          <p:nvPr/>
        </p:nvCxnSpPr>
        <p:spPr>
          <a:xfrm flipV="1">
            <a:off x="6013440" y="2571480"/>
            <a:ext cx="572400" cy="714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76" name="直接箭头连接符 23"/>
          <p:cNvCxnSpPr/>
          <p:nvPr/>
        </p:nvCxnSpPr>
        <p:spPr>
          <a:xfrm flipH="1" flipV="1">
            <a:off x="6941880" y="2714760"/>
            <a:ext cx="429120" cy="643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7" name="TextBox 25"/>
          <p:cNvSpPr/>
          <p:nvPr/>
        </p:nvSpPr>
        <p:spPr>
          <a:xfrm>
            <a:off x="4584600" y="5857920"/>
            <a:ext cx="342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Calibri"/>
                <a:ea typeface="宋体"/>
              </a:rPr>
              <a:t>底线如果太紧，则按图所示方向调节螺丝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Calibri"/>
                <a:ea typeface="宋体"/>
              </a:rPr>
              <a:t>adjust the screw as the pictue if the the underlay is too tigh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标题 63"/>
          <p:cNvSpPr/>
          <p:nvPr/>
        </p:nvSpPr>
        <p:spPr>
          <a:xfrm>
            <a:off x="3348000" y="571680"/>
            <a:ext cx="4896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关于金银线车花的改善方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矩形 6"/>
          <p:cNvSpPr/>
          <p:nvPr/>
        </p:nvSpPr>
        <p:spPr>
          <a:xfrm>
            <a:off x="3071880" y="91584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宋体"/>
              </a:rPr>
              <a:t>The way of improving embroidery of gold-silver thre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页脚占位符 2"/>
          <p:cNvSpPr/>
          <p:nvPr/>
        </p:nvSpPr>
        <p:spPr>
          <a:xfrm>
            <a:off x="7086600" y="225360"/>
            <a:ext cx="17906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chinaemblem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8" descr="IMG_0024"/>
          <p:cNvPicPr/>
          <p:nvPr/>
        </p:nvPicPr>
        <p:blipFill>
          <a:blip r:embed="rId1"/>
          <a:stretch/>
        </p:blipFill>
        <p:spPr>
          <a:xfrm>
            <a:off x="428760" y="2198520"/>
            <a:ext cx="2911320" cy="235764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4"/>
          <p:cNvSpPr/>
          <p:nvPr/>
        </p:nvSpPr>
        <p:spPr>
          <a:xfrm>
            <a:off x="285840" y="4627440"/>
            <a:ext cx="3214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拿着线端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轻轻把梭芯壳上下摇动时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,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线由于梭芯的自重能自然拉出来的状态为适当的张力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It is proper thread tension : to hand-lift the core of the shuttle and shake it from top and bottom, and  the bobbin thread can be pull out smooth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12" descr="IMG_0021"/>
          <p:cNvPicPr/>
          <p:nvPr/>
        </p:nvPicPr>
        <p:blipFill>
          <a:blip r:embed="rId2"/>
          <a:stretch/>
        </p:blipFill>
        <p:spPr>
          <a:xfrm>
            <a:off x="3786120" y="2198520"/>
            <a:ext cx="2908440" cy="2357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6" descr="IMG_0022"/>
          <p:cNvPicPr/>
          <p:nvPr/>
        </p:nvPicPr>
        <p:blipFill>
          <a:blip r:embed="rId3"/>
          <a:stretch/>
        </p:blipFill>
        <p:spPr>
          <a:xfrm>
            <a:off x="6715080" y="2413080"/>
            <a:ext cx="2136960" cy="2000160"/>
          </a:xfrm>
          <a:prstGeom prst="rect">
            <a:avLst/>
          </a:prstGeom>
          <a:ln w="0">
            <a:noFill/>
          </a:ln>
        </p:spPr>
      </p:pic>
      <p:sp>
        <p:nvSpPr>
          <p:cNvPr id="185" name="Oval 17"/>
          <p:cNvSpPr/>
          <p:nvPr/>
        </p:nvSpPr>
        <p:spPr>
          <a:xfrm>
            <a:off x="7829640" y="3246480"/>
            <a:ext cx="45720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4000680" y="4797360"/>
            <a:ext cx="471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将线芯装入底梭并放入底线张力器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用螺刀调节弹簧片松紧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红色针落在红色范围内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(20gf—30gf), place the core to the shuttle together with the gauge of the thread tension, adjusting the elasticity of the spring with screwdriver, setting the red pointer at 20gf – 30g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标题 63"/>
          <p:cNvSpPr/>
          <p:nvPr/>
        </p:nvSpPr>
        <p:spPr>
          <a:xfrm>
            <a:off x="3348000" y="571680"/>
            <a:ext cx="4896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关于金银线车花的改善方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矩形 6"/>
          <p:cNvSpPr/>
          <p:nvPr/>
        </p:nvSpPr>
        <p:spPr>
          <a:xfrm>
            <a:off x="3071880" y="91584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宋体"/>
              </a:rPr>
              <a:t>The way of improving embroidery of gold-silver thre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页脚占位符 2"/>
          <p:cNvSpPr/>
          <p:nvPr/>
        </p:nvSpPr>
        <p:spPr>
          <a:xfrm>
            <a:off x="7086600" y="225360"/>
            <a:ext cx="17906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chinaemblem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4:14:34Z</dcterms:created>
  <dc:creator>微软用户</dc:creator>
  <dc:description/>
  <dc:language>en-US</dc:language>
  <cp:lastModifiedBy>lenovo</cp:lastModifiedBy>
  <dcterms:modified xsi:type="dcterms:W3CDTF">2013-05-23T03:20:38Z</dcterms:modified>
  <cp:revision>3</cp:revision>
  <dc:subject/>
  <dc:title>幻灯片 1</dc:title>
</cp:coreProperties>
</file>